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F8DF-BE6B-44E3-AA9B-239CFEF94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F2B0-E6B8-42E5-8E74-52B585944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8946-B4DC-4CD8-B2B5-001124CC8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2C2A-4150-4BD2-A903-D1371228D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77B0-73D4-4372-AF2B-7526BBD744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B248-5445-4B4F-A556-7343F32A2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AB1E-8B88-4E45-8A07-059CF985B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1324-CD5C-403B-967E-AFE7B1F20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B12D-E1C2-43DE-A631-C552912AB6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E147-D1FD-4311-83BF-20C891D0A5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145B-8968-46D7-88CE-8DE21426E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CA8E-CF80-41D6-AE99-386B57BDD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4F21-A9C6-4974-9E01-F91BFA4E6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EE44-CE94-4255-BAA6-A65EB55ED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B663-93C9-44D3-81CF-43522243A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90E7-A42A-439B-93B7-E38F68B9D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5058-32B9-4289-B934-0542F2B0D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82D6-425F-47F5-8672-10E828F06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9F1C-9981-4F7E-ABB1-CABA24DB5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3F2A-BE60-4077-A180-50B8604BF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5D8C-3AC6-4DB2-8B4C-9C7BF50A3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D3AD-E1F1-4364-BA40-5FA691C4C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658F-00DE-4383-98E4-2056F4B77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4DEC-9E65-44B5-B610-44749989A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728071-432E-4AA8-BA8F-50FF53EECFC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A68690-BDC0-4C86-A333-8695430104A8}" type="slidenum">
              <a: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5280" y="189000"/>
            <a:ext cx="691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5400"/>
            </a:b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Тема: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Предмет і метод </a:t>
            </a:r>
            <a:br>
              <a:rPr sz="4400"/>
            </a:b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бухгалтерського облік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284640"/>
            <a:ext cx="712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uk-UA" sz="2800" spc="-1" strike="noStrike">
                <a:solidFill>
                  <a:srgbClr val="ffffcc"/>
                </a:solidFill>
                <a:latin typeface="Arial"/>
              </a:rPr>
              <a:t>.Предмет бухгалтерського обліку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cc"/>
                </a:solidFill>
                <a:latin typeface="Arial"/>
              </a:rPr>
              <a:t>2. Ресурси підприємств та їх класифікаці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Матеріальні активи — 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95320" y="1603440"/>
            <a:ext cx="7804080" cy="50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Нематеріальні активи —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603440"/>
            <a:ext cx="7772400" cy="45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nodeType="clickEffect" fill="hold">
                      <p:stCondLst>
                        <p:cond delay="0"/>
                      </p:stCondLst>
                      <p:childTnLst>
                        <p:par>
                          <p:cTn id="5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ffffcc"/>
                </a:solidFill>
                <a:latin typeface="Arial"/>
              </a:rPr>
              <a:t>Фінансові активи —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8720" y="1268280"/>
            <a:ext cx="7961400" cy="558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nodeType="clickEffect" fill="hold">
                      <p:stCondLst>
                        <p:cond delay="0"/>
                      </p:stCondLst>
                      <p:childTnLst>
                        <p:par>
                          <p:cTn id="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7920" y="249120"/>
            <a:ext cx="7785360" cy="12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8720" y="1554120"/>
            <a:ext cx="785808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Необоротні активи —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8720" y="1695600"/>
            <a:ext cx="7864560" cy="44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nodeType="clickEffect" fill="hold">
                      <p:stCondLst>
                        <p:cond delay="0"/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Оборотні активи —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07732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nodeType="clickEffect" fill="hold">
                      <p:stCondLst>
                        <p:cond delay="0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Arial"/>
              </a:rPr>
              <a:t>За ступенем ліквідності активи підприємства поділяють :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620720"/>
            <a:ext cx="7772400" cy="4530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52320" y="1579680"/>
            <a:ext cx="2773440" cy="3011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nodeType="clickEffect" fill="hold">
                      <p:stCondLst>
                        <p:cond delay="0"/>
                      </p:stCondLst>
                      <p:childTnLst>
                        <p:par>
                          <p:cTn id="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Ліквідність активів підприємства —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83936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nodeType="clickEffect" fill="hold">
                      <p:stCondLst>
                        <p:cond delay="0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90640" y="244440"/>
            <a:ext cx="780264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277920"/>
            <a:ext cx="7772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cc"/>
                </a:solidFill>
                <a:latin typeface="Arial"/>
              </a:rPr>
              <a:t>Поняття ліквідності активів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603440"/>
            <a:ext cx="7772400" cy="45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22280" y="1554120"/>
            <a:ext cx="743112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71560" y="476280"/>
            <a:ext cx="8034480" cy="58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Arial"/>
              </a:rPr>
              <a:t>СУБЄКТ БУХГАЛТЕРСЬКОГО ОБЛІКУ-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84160" y="1773360"/>
            <a:ext cx="780912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89680" y="3371760"/>
            <a:ext cx="292716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401760"/>
            <a:ext cx="8139240" cy="5475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4581360"/>
            <a:ext cx="3965760" cy="217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36480" y="620640"/>
            <a:ext cx="8507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400"/>
            </a:br>
            <a:br>
              <a:rPr sz="3400"/>
            </a:br>
            <a:r>
              <a:rPr b="0" lang="uk-UA" sz="3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br>
              <a:rPr sz="3400"/>
            </a:br>
            <a:br>
              <a:rPr sz="3400"/>
            </a:br>
            <a:r>
              <a:rPr b="0" lang="uk-UA" sz="3400" spc="-1" strike="noStrike">
                <a:solidFill>
                  <a:srgbClr val="ffffcc"/>
                </a:solidFill>
                <a:latin typeface="Arial"/>
              </a:rPr>
              <a:t>Об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uk-UA" sz="3400" spc="-1" strike="noStrike">
                <a:solidFill>
                  <a:srgbClr val="ffffcc"/>
                </a:solidFill>
                <a:latin typeface="Arial"/>
              </a:rPr>
              <a:t>єкти, що обліковуються за економічним змістом та призначенням можна об'єднати у три групи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206880"/>
            <a:ext cx="8278920" cy="354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5720" y="3090960"/>
            <a:ext cx="2254320" cy="28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nodeType="clickEffect" fill="hold">
                      <p:stCondLst>
                        <p:cond delay="0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6480" y="1341360"/>
            <a:ext cx="5273640" cy="532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62400" y="1700280"/>
            <a:ext cx="3932280" cy="46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19640" y="2708280"/>
            <a:ext cx="2592360" cy="14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2240" y="255600"/>
            <a:ext cx="7828200" cy="123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772400" cy="568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2111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За формами функціонування           господарські активи поділяють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95320" y="1596960"/>
            <a:ext cx="77979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7920" y="249120"/>
            <a:ext cx="8553600" cy="128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7920" y="1603440"/>
            <a:ext cx="7778880" cy="452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849760" cy="18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6:47:26Z</dcterms:created>
  <dc:creator>one</dc:creator>
  <dc:description/>
  <dc:language>en-US</dc:language>
  <cp:lastModifiedBy>Пользователь</cp:lastModifiedBy>
  <dcterms:modified xsi:type="dcterms:W3CDTF">2020-09-07T08:23:43Z</dcterms:modified>
  <cp:revision>64</cp:revision>
  <dc:subject/>
  <dc:title>Т.2 Предмет і метод бухгалтерського обліку</dc:title>
</cp:coreProperties>
</file>